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8.jpeg" ContentType="image/jpeg"/>
  <Override PartName="/ppt/media/image6.wmf" ContentType="image/x-wmf"/>
  <Override PartName="/ppt/media/image17.jpeg" ContentType="image/jpeg"/>
  <Override PartName="/ppt/media/image16.jpeg" ContentType="image/jpeg"/>
  <Override PartName="/ppt/media/image1.png" ContentType="image/png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6EA-9817-4E87-8784-9F4EAD93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D994-3F17-4741-A059-21F87DAA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976D-BEE9-4323-AB3F-CAA19B31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20574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20574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1666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1666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5633-D7FD-4F81-BE78-9A9549C3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E07A-F11C-491C-9535-D7AF7578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6B59-806F-4457-ADBC-4BFDA789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6137-6BC1-406D-8A50-1762A6F3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5755-B297-4AA1-AAEF-B6DDA76E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CCA1-9EF0-4E21-8020-BA476678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D4F2-DEF3-44CC-82DD-E3EF1783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8620-29E2-4634-A216-5F60F705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A205-51B9-4578-A2C8-1DC8B16D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B948-757E-480D-AD89-7860474D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5E6E-759A-4F3C-8E75-9B8E69B3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8526-367C-4ABA-B925-6FA6C6F9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3BE0-CADD-4D1E-A767-1954BA15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20574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20574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1666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1666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AFE0-3D93-411A-B2E9-07A79DB3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776D-97B8-49AB-BEF1-D3D9C035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EE99-D186-46F7-B64B-249B4F44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7C37-AB1D-401C-8E91-F35A2D2D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E8A-B601-47A8-BB3A-B717E69E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B4F-24C2-412A-B319-F1747DA0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722-1BF3-4609-B153-F6D61FB1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8DE-5ED1-47C2-A22A-7720C76F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971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19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9F1D-F9AC-4297-AA0A-BACFB8C9A4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981080" y="624852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91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FB7B-3BD0-4AB8-AA20-7A6ABBF2AF57}" type="slidenum"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Insects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type of arthropod…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84" name="Picture 4" descr="MCj03319330000[1]"/>
          <p:cNvPicPr/>
          <p:nvPr/>
        </p:nvPicPr>
        <p:blipFill>
          <a:blip r:embed="rId1"/>
          <a:stretch/>
        </p:blipFill>
        <p:spPr>
          <a:xfrm>
            <a:off x="1981080" y="3657600"/>
            <a:ext cx="1600200" cy="1009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MCj03319220000[1]"/>
          <p:cNvPicPr/>
          <p:nvPr/>
        </p:nvPicPr>
        <p:blipFill>
          <a:blip r:embed="rId2"/>
          <a:stretch/>
        </p:blipFill>
        <p:spPr>
          <a:xfrm>
            <a:off x="3809880" y="5181480"/>
            <a:ext cx="1524240" cy="1494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MCj03318300000[1]"/>
          <p:cNvPicPr/>
          <p:nvPr/>
        </p:nvPicPr>
        <p:blipFill>
          <a:blip r:embed="rId3"/>
          <a:stretch/>
        </p:blipFill>
        <p:spPr>
          <a:xfrm>
            <a:off x="5638680" y="3352680"/>
            <a:ext cx="1600200" cy="1517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MCj03319600000[1]"/>
          <p:cNvPicPr/>
          <p:nvPr/>
        </p:nvPicPr>
        <p:blipFill>
          <a:blip r:embed="rId4"/>
          <a:stretch/>
        </p:blipFill>
        <p:spPr>
          <a:xfrm>
            <a:off x="228600" y="1600200"/>
            <a:ext cx="1214280" cy="139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dragonflyeyes.jpg"/>
          <p:cNvPicPr/>
          <p:nvPr/>
        </p:nvPicPr>
        <p:blipFill>
          <a:blip r:embed="rId1"/>
          <a:stretch/>
        </p:blipFill>
        <p:spPr>
          <a:xfrm>
            <a:off x="1981080" y="0"/>
            <a:ext cx="47800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ebonyjewelwing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3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Insects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ithin the group “Arthropod”, there is the group of animals known as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nsects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sects account for about 80% of all arthropod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4645080" y="2706840"/>
          <a:ext cx="4075200" cy="27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5080" y="2706840"/>
                    <a:ext cx="4075200" cy="27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6" descr="MCj03468970000[1]"/>
          <p:cNvPicPr/>
          <p:nvPr/>
        </p:nvPicPr>
        <p:blipFill>
          <a:blip r:embed="rId3"/>
          <a:stretch/>
        </p:blipFill>
        <p:spPr>
          <a:xfrm>
            <a:off x="2590920" y="5257800"/>
            <a:ext cx="2209680" cy="1258920"/>
          </a:xfrm>
          <a:prstGeom prst="rect">
            <a:avLst/>
          </a:prstGeom>
          <a:ln w="0">
            <a:noFill/>
          </a:ln>
        </p:spPr>
      </p:pic>
      <p:sp>
        <p:nvSpPr>
          <p:cNvPr id="93" name="WordArt 7"/>
          <p:cNvSpPr txBox="1"/>
          <p:nvPr/>
        </p:nvSpPr>
        <p:spPr>
          <a:xfrm>
            <a:off x="4267080" y="3886200"/>
            <a:ext cx="8096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8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Line 8"/>
          <p:cNvSpPr/>
          <p:nvPr/>
        </p:nvSpPr>
        <p:spPr>
          <a:xfrm>
            <a:off x="5257800" y="4038480"/>
            <a:ext cx="38088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5" name="Picture 9" descr="MCj03468930000[1]"/>
          <p:cNvPicPr/>
          <p:nvPr/>
        </p:nvPicPr>
        <p:blipFill>
          <a:blip r:embed="rId4"/>
          <a:stretch/>
        </p:blipFill>
        <p:spPr>
          <a:xfrm>
            <a:off x="6781680" y="1371600"/>
            <a:ext cx="1827360" cy="116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Insects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sects are arthropod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r an organism to belong to the insect group, it needs to have specific trai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114800" y="1523880"/>
          <a:ext cx="4724280" cy="4064040"/>
        </p:xfrm>
        <a:graphic>
          <a:graphicData uri="http://schemas.openxmlformats.org/drawingml/2006/table">
            <a:tbl>
              <a:tblPr/>
              <a:tblGrid>
                <a:gridCol w="2355840"/>
                <a:gridCol w="2368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336699"/>
                          </a:solidFill>
                          <a:uFillTx/>
                          <a:latin typeface="Comic Sans MS"/>
                          <a:ea typeface="Times New Roman"/>
                        </a:rPr>
                        <a:t>Key structures of Arthropods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336699"/>
                          </a:solidFill>
                          <a:uFillTx/>
                          <a:latin typeface="Comic Sans MS"/>
                          <a:ea typeface="Times New Roman"/>
                        </a:rPr>
                        <a:t>Key structures of Insects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Comic Sans MS"/>
                          <a:ea typeface="Times New Roman"/>
                        </a:rPr>
                        <a:t>3 or more pairs of jointed legs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Comic Sans MS"/>
                          <a:ea typeface="Times New Roman"/>
                        </a:rPr>
                        <a:t>3 pairs of jointed legs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Comic Sans MS"/>
                          <a:ea typeface="Times New Roman"/>
                        </a:rPr>
                        <a:t>Exoskeleton covering entire body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Comic Sans MS"/>
                          <a:ea typeface="Times New Roman"/>
                        </a:rPr>
                        <a:t>Exoskeleton covering entire body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Comic Sans MS"/>
                          <a:ea typeface="Times New Roman"/>
                        </a:rPr>
                        <a:t>Body made of 2 or more distinct segments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Comic Sans MS"/>
                          <a:ea typeface="Times New Roman"/>
                        </a:rPr>
                        <a:t>Body made of 3 distinct segments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Comic Sans MS"/>
                          <a:ea typeface="Times New Roman"/>
                        </a:rPr>
                        <a:t>Some have wings or specialized mouths.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9" name="Text Box 65"/>
          <p:cNvSpPr/>
          <p:nvPr/>
        </p:nvSpPr>
        <p:spPr>
          <a:xfrm>
            <a:off x="4648320" y="10666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99"/>
                </a:solidFill>
                <a:latin typeface="Arial"/>
              </a:rPr>
              <a:t>Copy this chart into your notebook: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0" name="Picture 66" descr="MCj03398680000[1]"/>
          <p:cNvPicPr/>
          <p:nvPr/>
        </p:nvPicPr>
        <p:blipFill>
          <a:blip r:embed="rId1"/>
          <a:stretch/>
        </p:blipFill>
        <p:spPr>
          <a:xfrm>
            <a:off x="1752480" y="5029200"/>
            <a:ext cx="1524240" cy="1258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MPj03140640000[1]"/>
          <p:cNvPicPr/>
          <p:nvPr/>
        </p:nvPicPr>
        <p:blipFill>
          <a:blip r:embed="rId1"/>
          <a:stretch/>
        </p:blipFill>
        <p:spPr>
          <a:xfrm>
            <a:off x="4343400" y="4000680"/>
            <a:ext cx="3200400" cy="2857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Insect Bodies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ll </a:t>
            </a:r>
            <a:r>
              <a:rPr b="0" i="1" lang="en-US" sz="3200" spc="-1" strike="noStrike">
                <a:solidFill>
                  <a:srgbClr val="336699"/>
                </a:solidFill>
                <a:latin typeface="Arial"/>
              </a:rPr>
              <a:t>arthropods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have a body with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t least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336699"/>
                </a:solidFill>
                <a:uFillTx/>
                <a:latin typeface="Arial"/>
              </a:rPr>
              <a:t>2 distinct body segments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sects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336699"/>
                </a:solidFill>
                <a:latin typeface="Arial"/>
              </a:rPr>
              <a:t>which belong in the arthropod group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ave 3 distinct body segments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4" name="Picture 4" descr="MPj03140610000[1]"/>
          <p:cNvPicPr/>
          <p:nvPr/>
        </p:nvPicPr>
        <p:blipFill>
          <a:blip r:embed="rId2"/>
          <a:stretch/>
        </p:blipFill>
        <p:spPr>
          <a:xfrm>
            <a:off x="762120" y="4419720"/>
            <a:ext cx="2819160" cy="198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Insect Bodies…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ey are the Head, Thorax, and Abdomen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7" name="Picture 4" descr="grasshopper"/>
          <p:cNvPicPr/>
          <p:nvPr/>
        </p:nvPicPr>
        <p:blipFill>
          <a:blip r:embed="rId1"/>
          <a:stretch/>
        </p:blipFill>
        <p:spPr>
          <a:xfrm>
            <a:off x="1523880" y="2133720"/>
            <a:ext cx="6629400" cy="447012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1676520" y="449568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3352680" y="37339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6858000" y="396252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Insect Bodies…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e thorax is the mobility segment of an insect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e legs and wings are attached to the thorax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e digestive system is located in the abdomen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e brain is located in the head. 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(of course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2438280" y="6324480"/>
            <a:ext cx="53341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T014077A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394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Take a look…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bluedamsle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607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damselfly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1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3:39:11Z</dcterms:created>
  <dc:creator>Teacher</dc:creator>
  <dc:description/>
  <cp:keywords/>
  <dc:language>en-US</dc:language>
  <cp:lastModifiedBy>Moe</cp:lastModifiedBy>
  <dcterms:modified xsi:type="dcterms:W3CDTF">2009-10-13T12:42:38Z</dcterms:modified>
  <cp:revision>10</cp:revision>
  <dc:subject/>
  <dc:title>Insec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51033</vt:lpwstr>
  </property>
</Properties>
</file>